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8C4-74D7-43F7-A575-28E6EF5D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C16-1CBC-480C-84C5-961C0C70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1B4-B4CC-4DF6-94EA-B509F4BD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73E-285F-45A7-892A-BF327446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C4B-79EE-47F1-B262-6548D640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82F-EFFC-4780-A571-58140709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97D-8C4B-4164-B0DF-DE1EA970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A3D-851D-414F-9B7E-9FBBAC3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97F-1588-4A3E-99BA-7A5E6EA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641-BD10-4A7E-AD89-71EF7FB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DD2-BD5F-472B-96B7-4B88629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21A-0E23-4A61-B618-3EE4474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366-FB4A-4D0F-86BA-3C8EC93384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قهوة المحم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كثير من الناس يفضلون القهوة المحمصة في المنزل عن القهوة الجاهزة، ومازال العديد يجد المتعة في عملية التحميص ضمن أجواء عائلية دافئ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aleeb</cp:lastModifiedBy>
  <dcterms:modified xsi:type="dcterms:W3CDTF">2004-08-03T14:33:05Z</dcterms:modified>
  <cp:revision>2</cp:revision>
  <dc:subject/>
  <dc:title>PowerPoint Presentation</dc:title>
</cp:coreProperties>
</file>